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AAA-2FDF-4949-8C50-7159A0EE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406-EE7C-4E49-886F-33746078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91D-24F7-47D5-9BB3-B2D1F70C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965-42EA-442A-9F91-EAD90B23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AD6-7F22-453F-B1BF-F2FA49B2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6D7-6317-4587-BBD0-4E0EAEC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338-4476-45A6-97FD-E2A0E8D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719E-9F92-476F-9331-39B338C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F612-A3E1-4A0C-9305-F51CA146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7909-0E8F-46E4-8C79-550B7B4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9301-AEAF-47C6-B9EF-318B0233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338-26B9-476D-8775-623B655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6C69-DA01-4230-978F-23C2313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B339-E4B8-4495-8E77-AAAC7624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EC8-1D90-4277-B67F-F8D30A63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4D2A-7797-463D-987F-89E7094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EDE8-54B0-4DC8-B2A9-6506C97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148-BBDC-47D7-BEFF-611EDF6A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E0D-659B-4CF4-8A69-21E4E86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6A7-76E8-43FA-A70C-192B2276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EC1-95C0-4FBC-A196-4737F0B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C7B-DE5D-4A96-A65D-61064F2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9A6-434B-4B7E-9253-10E575E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CBE-CC86-4E56-A998-535CB48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DC6E-472B-4934-BEBE-80DC1CED1114}" type="datetime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85B6-F687-4A70-83A8-01913CAB0E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18560" y="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031F-1672-498A-BAC5-A28202EA2E9E}" type="datetime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B97-2339-4E0C-854D-8A1C4401A5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18560" y="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Считаем</a:t>
            </a:r>
            <a:br>
              <a:rPr sz="4400"/>
            </a:b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 без калькулятора</a:t>
            </a:r>
            <a:r>
              <a:rPr b="1" lang="en-US" sz="5400" spc="-1" strike="noStrike">
                <a:solidFill>
                  <a:srgbClr val="79af7d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889440" cy="2855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5129280"/>
            <a:ext cx="64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териалы научно-практической конференц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екция: математи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одготовила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Бойчук Наталия,11*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уководитель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.А.Гриднева</a:t>
            </a: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,учитель математи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007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17640" y="281160"/>
            <a:ext cx="17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имназия №2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Мин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9F01-0517-40F8-A37D-B090766EC3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44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ория  остат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11684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2f1311"/>
                </a:solidFill>
                <a:latin typeface="Arial"/>
              </a:rPr>
              <a:t>Определение. Делитель в теории чисел называется модулем, а числа, дающие при делении на модуль одинаковые остатки, называются сравнимыми по модул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0820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66100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47840" y="4600440"/>
            <a:ext cx="41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26E-D136-4189-BF4F-91B664C8C0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533600" y="1514520"/>
                <a:ext cx="13644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901960" y="1514520"/>
            <a:ext cx="30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80000" y="151452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2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80000" y="151452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2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32840" y="151452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981000"/>
          <a:ext cx="7286400" cy="5711760"/>
        </p:xfrm>
        <a:graphic>
          <a:graphicData uri="http://schemas.openxmlformats.org/drawingml/2006/table">
            <a:tbl>
              <a:tblPr/>
              <a:tblGrid>
                <a:gridCol w="1441440"/>
                <a:gridCol w="2604960"/>
                <a:gridCol w="3240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Формул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оказательств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= 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 16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</a:t>
                      </a:r>
                      <a:r>
                        <a:rPr b="1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6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2= 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2= 16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k+2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</a:t>
                      </a:r>
                      <a:r>
                        <a:rPr b="1" lang="ru-RU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4= 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= 16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4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</a:t>
                      </a:r>
                      <a:r>
                        <a:rPr b="1" lang="ru-RU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8= 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8= 16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(81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k+1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3=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3=(81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2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</a:t>
                      </a:r>
                      <a:r>
                        <a:rPr b="1" lang="ru-RU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9=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9=(81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27 =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27=(</a:t>
                      </a:r>
                      <a:r>
                        <a:rPr b="1" lang="be-BY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27=(81)</a:t>
                      </a:r>
                      <a:r>
                        <a:rPr b="1" lang="be-BY" sz="14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 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*27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</a:t>
                      </a:r>
                      <a:r>
                        <a:rPr b="1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7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1672560" y="208080"/>
            <a:ext cx="54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2f1311"/>
                </a:solidFill>
                <a:latin typeface="Arial"/>
              </a:rPr>
              <a:t>Для решения ряда задач на поиски последн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be-BY" sz="1800" spc="-1" strike="noStrike">
                <a:solidFill>
                  <a:srgbClr val="2f1311"/>
                </a:solidFill>
                <a:latin typeface="Arial"/>
              </a:rPr>
              <a:t>цифры числа полезна следующая «таблица</a:t>
            </a:r>
            <a:r>
              <a:rPr b="0" lang="be-BY" sz="1800" spc="-1" strike="noStrike">
                <a:solidFill>
                  <a:srgbClr val="2f1311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B91-DE46-49A3-8A8D-DCC8B34EE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533600" y="601560"/>
                <a:ext cx="136440" cy="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880000" y="60156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2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2k+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01960" y="601560"/>
            <a:ext cx="30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5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2880" y="601560"/>
            <a:ext cx="3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6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k</a:t>
            </a: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80000" y="60156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7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21320" y="601560"/>
            <a:ext cx="46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7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1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7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2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7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80000" y="60156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8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8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8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2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8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4k+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80000" y="601560"/>
            <a:ext cx="3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9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2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2840" y="601560"/>
            <a:ext cx="4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9</a:t>
            </a:r>
            <a:r>
              <a:rPr b="0" lang="be-BY" sz="1200" spc="-1" strike="noStrike" baseline="30000">
                <a:solidFill>
                  <a:srgbClr val="2f1311"/>
                </a:solidFill>
                <a:latin typeface="Times New Roman"/>
                <a:ea typeface="Times New Roman"/>
              </a:rPr>
              <a:t>2k+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189000"/>
          <a:ext cx="7416720" cy="6648480"/>
        </p:xfrm>
        <a:graphic>
          <a:graphicData uri="http://schemas.openxmlformats.org/drawingml/2006/table">
            <a:tbl>
              <a:tblPr/>
              <a:tblGrid>
                <a:gridCol w="1368360"/>
                <a:gridCol w="3024000"/>
                <a:gridCol w="30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16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+1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k+1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( 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+1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=( 16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((49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1 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7=((49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7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7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k+2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9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9=((49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9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k+3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mod 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9*7=((49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49*7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(64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1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8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8=(64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8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k+2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=(64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+3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*8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*8=(64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64*8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81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k+1</a:t>
                      </a:r>
                      <a:r>
                        <a:rPr b="0" lang="be-BY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mod 10)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k+1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9= (</a:t>
                      </a:r>
                      <a:r>
                        <a:rPr b="0" lang="be-BY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9=81</a:t>
                      </a:r>
                      <a:r>
                        <a:rPr b="0" lang="be-BY" sz="1200" spc="-1" strike="noStrike" baseline="30000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r>
                        <a:rPr b="0" lang="ru-R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*9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сегда заканчивается цифрой 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A8C-5A9D-4716-8C59-8D2F55711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464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я из тест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йти последнюю цифру числа 137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ешение. 137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1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 (137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заканчивается цифрой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AD9-5F29-43EA-8642-52BAC0788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464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я из тест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равнить 798923*798925 и 798924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ешение.798923*798925=(798924-1)*(798924+1)=798924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-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чит, 798923*798925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798924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2DE-A093-4E98-B7F3-3320F7FCE5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36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лимпиадная задач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Кассир меняет любые две монеты на любые три по вашему выбору, а любые три — на любые две. Сможете ли вы обменять у него 100 монет достоинством 1 рубль на 100 монет достоинством 1 форинт, отдав ему при обмене ровно 2001 монету?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Если Петя меняет две монеты на три, то количество купюр у него увеличивается на одну. Пусть он произвёл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таких обменов. Отдал кассиру 2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купюр. Чтобы сохранить общее число монет, Петя вынужден совершить столько же обменов трёх купюр на две. При этом он отдаст кассиру ещё 3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монет. Всего он отдаст, таким образом, 2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+ 3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= 5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монет. Но 2001 не делится на 5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ет, не мож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6CD-293D-4735-AD73-500291BE5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3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 для тестир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ой цифрой заканчивается число 2008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2008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лится ли произведение чисел 2008*2009*2010*2011*2012 на 8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ой остаток от деления на 8 имеет произведение чисел 2009*2011*2013*2015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53F-0F03-4B7E-A208-6E9C48374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26920" y="1268280"/>
            <a:ext cx="2336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7386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целью расширения и углубления понятий числа рекомендуем запомнить разложение на множители чисел 1001 (число Шахерезады), 10101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менять законы арифметических действий для эффективного выполнения заданий с числами-великанами, изучать и находить новые закономер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тивно применять в примерах признаки делимости, теоремы об остатках и другие секреты  </a:t>
            </a: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устных вычислений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для облегчения  процессов вычислений. Это поможет сократить время на решение заданий на уроках, в примерах на ЦТ и олимпиад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098000" y="187200"/>
            <a:ext cx="6615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чет и вычисления –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ы порядка в голов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оганн Генрих Песталоцци ( 1746 - 1827) 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вейц . педаго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9B8-D932-45B4-800E-CA63C0AAA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6480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2f1311"/>
                </a:solidFill>
                <a:latin typeface="Arial"/>
              </a:rPr>
              <a:t>Устный счёт</a:t>
            </a:r>
            <a:r>
              <a:rPr b="0" i="1" lang="be-BY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Ну-ка в сторону карандаш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Ни костяшек. Ни ручек. Ни ме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"Устный счёт!" Мы творим это д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Только силой ума и душ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Цифры сходятся где-то во тьм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И глаза начинают светитьс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И кругом только умные лиц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Потому что считаем в ум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r>
              <a:rPr b="1" i="1" lang="be-BY" sz="2400" spc="-1" strike="noStrike">
                <a:solidFill>
                  <a:srgbClr val="2f1311"/>
                </a:solidFill>
                <a:latin typeface="Arial"/>
              </a:rPr>
              <a:t>Валентин Берест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137-704D-4586-A143-81882F6357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Считаем</a:t>
            </a:r>
            <a:br>
              <a:rPr sz="4400"/>
            </a:b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 без калькулятора</a:t>
            </a:r>
            <a:r>
              <a:rPr b="1" lang="en-US" sz="5400" spc="-1" strike="noStrike">
                <a:solidFill>
                  <a:srgbClr val="79af7d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889440" cy="285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16000" y="5129280"/>
            <a:ext cx="64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териалы научно-практической конференц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екция: математи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одготовила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Бойчук Наталия,11*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Руководитель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.А.Гриднева</a:t>
            </a: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,учитель математи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2007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17640" y="281160"/>
            <a:ext cx="17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имназия №2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Мин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79B-E314-45E2-BBC2-76B85353E8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619280" y="1915920"/>
            <a:ext cx="5689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ченикам 11* класса в следующем году необходимо пройти централизованное тестирование. Заданий много, считать надо быстро. Поэтому нам необходимо использовать приемы устного сче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9af7d"/>
                </a:solidFill>
                <a:latin typeface="Times New Roman"/>
              </a:rPr>
              <a:t>Актуальность исследования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C8B1-E1FA-4913-8008-AE1992E81C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2852640"/>
            <a:ext cx="66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79af7d"/>
                </a:solidFill>
                <a:latin typeface="Monotype Corsiva"/>
              </a:rPr>
              <a:t>  </a:t>
            </a:r>
            <a:r>
              <a:rPr b="0" lang="en-US" sz="12900" spc="-1" strike="noStrike">
                <a:solidFill>
                  <a:srgbClr val="79af7d"/>
                </a:solidFill>
                <a:latin typeface="Monotype Corsiva"/>
              </a:rPr>
              <a:t>Спасибо </a:t>
            </a:r>
            <a:br>
              <a:rPr sz="12900"/>
            </a:br>
            <a:r>
              <a:rPr b="0" lang="en-US" sz="12900" spc="-1" strike="noStrike">
                <a:solidFill>
                  <a:srgbClr val="79af7d"/>
                </a:solidFill>
                <a:latin typeface="Monotype Corsiva"/>
              </a:rPr>
              <a:t>       за внимание!</a:t>
            </a:r>
            <a:endParaRPr b="0" lang="en-US" sz="1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EEC-6604-4CB8-BFB5-D671ABE33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9af7d"/>
                </a:solidFill>
                <a:latin typeface="Times New Roman"/>
              </a:rPr>
              <a:t>Цель работы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2640600"/>
            <a:ext cx="65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Расширить знания приемов и методов устного счета для эффективного  использования  устных вычислений при решении заданий из ЦТ и олимпиа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31C-3BB7-42EF-8DF9-FF5BE169E5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9af7d"/>
                </a:solidFill>
                <a:latin typeface="Times New Roman"/>
              </a:rPr>
              <a:t>Задачи работы</a:t>
            </a:r>
            <a:r>
              <a:rPr b="1" lang="en-US" sz="4800" spc="-1" strike="noStrike">
                <a:solidFill>
                  <a:srgbClr val="79af7d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йти, изучить и проанализировать литературу по теме «Приемы устного счета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учить этапы  развития  вычислительной техники, изучить приемы устного умножения (деления) , применяемые в некоторых страна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учить и доказать закономерности при умножении (делении) на 2,3,5,7,9,11,13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ешить примеры из ЦТ и олимпиад, демонстрируя неоспоримое преимущество применения «специальных» приемов перед  традиционны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297-11FB-4C37-B391-C691161F05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497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основаны на применении законов и свойств арифметических действ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9af7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79af7d"/>
                </a:solidFill>
                <a:latin typeface="Times New Roman"/>
              </a:rPr>
              <a:t>Традиционные приемы </a:t>
            </a:r>
            <a:br>
              <a:rPr sz="4000"/>
            </a:br>
            <a:r>
              <a:rPr b="1" lang="en-US" sz="4000" spc="-1" strike="noStrike">
                <a:solidFill>
                  <a:srgbClr val="79af7d"/>
                </a:solidFill>
                <a:latin typeface="Times New Roman"/>
              </a:rPr>
              <a:t>         устного сч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852640"/>
            <a:ext cx="6983280" cy="375300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тересный метод умножения чисел от 10 до 20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 одному из чисел надо прибавить количество единиц другого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множить на 10 и прибавить произведение единиц чисе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пример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6*18 = (16+8)*10 + 6*8 = 28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72 = (17+7)*10 + 7*7 = 28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казательство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Любое число от 10 до 20 можно представить в виде (10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меем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 (10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)(10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)=100+10(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)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=10(10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)+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665E-8ED0-4843-8F6C-FF1A84E8B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78920" y="2133360"/>
            <a:ext cx="7380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умножения на 5, 50 и 500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умножения на 25, 250,2500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умножения на 125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умножения на 15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умножения на 9 и 99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ем умножения на 11,1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ём возведения в квадрат двузначных чисе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Прием устного извлечения квадратного корн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Индусский способ умножения чисе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ые  приемы устного умножения</a:t>
            </a:r>
            <a:r>
              <a:rPr b="0" lang="en-US" sz="4000" spc="-1" strike="noStrike">
                <a:solidFill>
                  <a:srgbClr val="79af7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CB90-A682-4E1A-B006-486C31284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6049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Умножение двузначного числа на 1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(1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+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)*111=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11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111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00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10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1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0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1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000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100(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)+10(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)+</a:t>
            </a:r>
            <a:r>
              <a:rPr b="0" i="1" lang="en-US" sz="2800" spc="-1" strike="noStrike">
                <a:solidFill>
                  <a:srgbClr val="2f1311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ём</a:t>
            </a:r>
            <a:r>
              <a:rPr b="1" lang="en-US" sz="4000" spc="-1" strike="noStrike">
                <a:solidFill>
                  <a:srgbClr val="79af7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множения на 11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3640" y="5516640"/>
            <a:ext cx="4319640" cy="8254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5 * 111  =  499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83B-6BA6-447D-AD39-90185CEF32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8360" y="2133360"/>
            <a:ext cx="71280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ризнаки делимости на 2, 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ризнаки делимости на 3, 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ризнаки делимости на 5, 10, 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ризнаки делимости на 7, 11, 13, 1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обые  приемы устного дел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6736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8560" y="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63640" y="5445000"/>
            <a:ext cx="4319640" cy="9471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име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949 : 11 = 35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3D8E-424C-49F1-A8E2-5B12D354A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935080" cy="3746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Галерея диковинных чисе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08000" y="1341000"/>
            <a:ext cx="3616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Многим известна карти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.П. Богданова - Бельск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"Устный счет"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 которой изображе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ктор математических нау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.А. Рачинский со своими ученика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 доске записан пример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ля устного счет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276720" y="4076640"/>
                <a:ext cx="43210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556-DF1E-4FF4-AE6C-D4186E076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13:05Z</dcterms:created>
  <dc:creator>Владимир</dc:creator>
  <dc:description/>
  <dc:language>en-US</dc:language>
  <cp:lastModifiedBy>GRIDNEV</cp:lastModifiedBy>
  <dcterms:modified xsi:type="dcterms:W3CDTF">2007-12-17T19:29:37Z</dcterms:modified>
  <cp:revision>62</cp:revision>
  <dc:subject/>
  <dc:title>Устный счет. Методы и приемы </dc:title>
</cp:coreProperties>
</file>